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50F-6D04-4D06-8601-0F02C8DB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066-12DF-457D-B055-A03B519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9C3-9FCC-40DF-BE91-D1A2DA3B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388-00F3-4F58-A8CC-ADD05F7E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3F6-47B6-4A00-B2E7-3D01CA62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509-3DF9-4B6B-8E79-42BF3AD5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264-809C-4614-870A-977BF7D9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C2A-88A6-4770-8E05-452BAB6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331-22E4-42FA-84B4-FA74D0CF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69E-4877-4780-A2EF-C1AEA27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7AF-1CFA-46FD-AA5C-2C4F9223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5EE-BBD1-47D2-B308-32A158E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19B1-4612-4E65-9594-01085C93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formed directly from volcanic (magma) that has cooled are _______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gneous rocks are classified by their crystal ___ and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rusive igneous rocks form ___ the surface and extrusive igneous rock form above the 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ock such as granite with large crystals ____ slowly_____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way to identify an igneous rock like granite is to look for ______ cryst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81680" y="1143000"/>
            <a:ext cx="2057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gneous rocks form from the ____ and hardening of mag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broken up from wind, rain, and exposure refers to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rock is created through the deposition, stratification, and lithification (layering) of weathered rock fragments and s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ock such as granite with large crystals ____ slowly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ock such as basalt with small crystal cooled ____ at the_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1447920"/>
            <a:ext cx="19810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formed directly from cooling magma are classified as_____________r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broken up from wind, rain, and exposure refers to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rock is created through the deposition, stratification, and lithification (layering) of weathered rock fragments and s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way to identify a sedimentary rock is to look for stratification or 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way to identify igneous rocks is look for ________crys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1447920"/>
            <a:ext cx="19051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41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705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rock is a_______ of miner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dark rock made of volcanic glass that cooled very quickly is called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is the flattening and parallel alignment of minerals grains in response to heat an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the name of an extrusive igneous rock that is dark in col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5.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lomerate is a rock made up of____________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6.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rble is a ___________ rock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7.    The metamorphic rock formed from siltstone is called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905120"/>
            <a:ext cx="198144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i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b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6781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formed directly from volcanic (magma) that has cooled are _______r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broken up from wind, rain, and exposure refers to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rock is created through the deposition, stratification, and lithification (layering) of weathered rock fragments and s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 that have been subjected to high temperature and pressure are called________ r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10280" y="1600200"/>
            <a:ext cx="1905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0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16:57Z</dcterms:created>
  <dc:creator>jfuller</dc:creator>
  <dc:description/>
  <dc:language>en-US</dc:language>
  <cp:lastModifiedBy>jfuller</cp:lastModifiedBy>
  <dcterms:modified xsi:type="dcterms:W3CDTF">2011-10-03T15:17:03Z</dcterms:modified>
  <cp:revision>1</cp:revision>
  <dc:subject/>
  <dc:title>Rock Makeup Bellwork</dc:title>
</cp:coreProperties>
</file>